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AC3-4E9D-4815-85A2-A431EF91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1CB-313D-4E8E-8B21-0C597450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241-022A-48E8-9D51-00F35068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FFF-57C1-454B-B10F-AFE90458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5EE5-1F59-42E3-8269-DCB9DB90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5FE9-B1A6-43B2-B17F-91CAD831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2DB0-ACDA-4B18-A97B-FF4A736F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4807-F8B1-4F03-B9F3-8352A3AB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2AC2-3AA3-4224-B52C-563FC551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AACA-CB8E-4BC0-8BC4-3420F43B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913C-0EF5-4835-A239-B7E64CC4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CAB-51D8-43FC-B48C-FFD8503E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1538-B2E1-4CB4-9956-DF5C53AE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3333-2D61-4961-AE7B-0A4AF57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6133-C381-4C04-B87D-9A3240AA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14E3-1D26-4E82-B1E8-6894EF55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0452-5E4D-4852-AFF8-10F72FAD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A55-0339-42FB-BE9D-3E37D74C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1CF-AE7C-4AC3-9A85-215C2821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620-8099-4ABA-97FC-81D903A9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4C6-92DF-4B34-8159-9F7C2380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1F5-64F9-4010-9FCA-A720EC44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982-38FD-4A09-A778-06E18C29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F74-C063-41F9-92C8-9D8FEE45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1029-6E33-4A51-951B-57D09013103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026C-45DF-4D81-BDD1-54AD634636F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0033"/>
                </a:solidFill>
                <a:latin typeface="Times New Roman"/>
              </a:rPr>
              <a:t>Diagnóstico, Tratamiento y control de la TBP.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ra. Eloisa Salas Hernán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oisa.salas@imss.gob.mx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Diagnóstic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BAAR seriad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3 muestras de esput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Cultivo de mycobacteriu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Cepillado bronquial: prueba directa  histológic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ayos “X” como complementación D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Diagnóstic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915920"/>
            <a:ext cx="7139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sociación epidemio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Coombe (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PPD (+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0.1cc intradérmico cara anterior antebraz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Lectura  a las 72 h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Positivo = induración mayor a 10 m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Reactor = induraciòn de 5-9 m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330033"/>
                </a:solidFill>
                <a:latin typeface="Times New Roman"/>
              </a:rPr>
              <a:t>Tratamiento </a:t>
            </a:r>
            <a:br>
              <a:rPr sz="3800"/>
            </a:br>
            <a:r>
              <a:rPr b="0" lang="es-MX" sz="3800" spc="-1" strike="noStrike">
                <a:solidFill>
                  <a:srgbClr val="330033"/>
                </a:solidFill>
                <a:latin typeface="Times New Roman"/>
              </a:rPr>
              <a:t>         &gt;50 Kgs. Sin patología agregada.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ase intensiva ( 10 seman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Rifater (4 comp.) lunes a sáb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Isoniacida (75 m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Rifampicina (150 mgs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Pirazinamida (400 mgs.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tambutol 3 tabs. (400 mg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ase de sostén (15 seman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OTbals (2 Caps.) lunes, miércoles y vier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Isoniacida (200 m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Rifampicina (150 mgs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00424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330033"/>
                </a:solidFill>
                <a:latin typeface="Times New Roman"/>
              </a:rPr>
              <a:t>Tratamiento </a:t>
            </a:r>
            <a:br>
              <a:rPr sz="3800"/>
            </a:br>
            <a:r>
              <a:rPr b="0" lang="es-MX" sz="3800" spc="-1" strike="noStrike">
                <a:solidFill>
                  <a:srgbClr val="330033"/>
                </a:solidFill>
                <a:latin typeface="Times New Roman"/>
              </a:rPr>
              <a:t>         &gt;50 Kgs. c/ patología agregada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ase intensiva ( 10 seman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OTbal  (4 tab.) lunes a sáb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Isoniacida (75 m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Rifampicina (150 mgs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Pirazinamida (400 mgs.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Etambutol ( (400 m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ase intermedia (5 semanas) = inten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ase de sostén (20 seman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OTbals (2 Caps.) lunes, miércoles y vier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Isoniacida (200 m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Rifampicina (150 mgs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Medidas de contro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92000" y="2349360"/>
            <a:ext cx="6994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agnóstico oport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ratamiento supervis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guimiento de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udio de conta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ducación para la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Seguimiento de  ca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33440" y="2133360"/>
            <a:ext cx="735336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icio de Tx. TA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trol mensual clínico y bacteri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apacidad (BAAR 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trol de Tx. en área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ta del caso: Remisión clínica y BAAR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guimiento prob. Recaída por 1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Estudio de contac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yores de 1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ntomático respiratorio= BA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No sintomático= Educación para la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PD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nores de 1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/BC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intomático= BA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Asintomático= Educación para la salu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/BC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PD (-) se aplica BC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intomático= BA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Asintomático= Educación para la salu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No olvi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2285640"/>
            <a:ext cx="749952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control de la tuberculosis es tare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Limitada participación  de la sociedad civil, otros sectores en el control de laTB y otros programas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MG0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6156360" y="620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Tendencia de la mortalidad de TBP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br>
              <a:rPr sz="2600"/>
            </a:br>
            <a:r>
              <a:rPr b="0" lang="es-ES_tradnl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660240" y="2181240"/>
          <a:ext cx="592164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2181240"/>
                    <a:ext cx="592164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Etiopatogéni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4" name="Diagram 5"/>
          <p:cNvGrpSpPr/>
          <p:nvPr/>
        </p:nvGrpSpPr>
        <p:grpSpPr>
          <a:xfrm>
            <a:off x="2046240" y="1738440"/>
            <a:ext cx="5572080" cy="3452760"/>
            <a:chOff x="2046240" y="1738440"/>
            <a:chExt cx="5572080" cy="3452760"/>
          </a:xfrm>
        </p:grpSpPr>
        <p:sp>
          <p:nvSpPr>
            <p:cNvPr id="105" name="_s2052"/>
            <p:cNvSpPr/>
            <p:nvPr/>
          </p:nvSpPr>
          <p:spPr>
            <a:xfrm>
              <a:off x="3956040" y="2351160"/>
              <a:ext cx="1752480" cy="1752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53"/>
            <p:cNvSpPr/>
            <p:nvPr/>
          </p:nvSpPr>
          <p:spPr>
            <a:xfrm>
              <a:off x="4182840" y="1738440"/>
              <a:ext cx="129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054"/>
            <p:cNvSpPr/>
            <p:nvPr/>
          </p:nvSpPr>
          <p:spPr>
            <a:xfrm>
              <a:off x="4532040" y="3351240"/>
              <a:ext cx="1752840" cy="17524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055"/>
            <p:cNvSpPr/>
            <p:nvPr/>
          </p:nvSpPr>
          <p:spPr>
            <a:xfrm>
              <a:off x="6319800" y="4751280"/>
              <a:ext cx="129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056"/>
            <p:cNvSpPr/>
            <p:nvPr/>
          </p:nvSpPr>
          <p:spPr>
            <a:xfrm>
              <a:off x="3377880" y="3349440"/>
              <a:ext cx="1752840" cy="175284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057"/>
            <p:cNvSpPr/>
            <p:nvPr/>
          </p:nvSpPr>
          <p:spPr>
            <a:xfrm>
              <a:off x="2046240" y="4753080"/>
              <a:ext cx="129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4"/>
          <p:cNvSpPr/>
          <p:nvPr/>
        </p:nvSpPr>
        <p:spPr>
          <a:xfrm>
            <a:off x="4284720" y="2637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348000" y="40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932360" y="40244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ués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Etiopatogéni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899440" y="24400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ycobacterium tubercul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044520" y="287172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orio el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136680" y="328464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nsmisión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282480" y="37893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cil identificación en l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404160" y="416736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nsible  al Tx. e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476520" y="46004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rogore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6714000" y="58453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Etiopatogé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203640" y="2133720"/>
            <a:ext cx="29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yores de 1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25584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79600" y="2492280"/>
            <a:ext cx="336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munocomprometi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nutrición se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abetes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H – 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x. Inmunosupre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348000" y="414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279240" y="422100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acto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281040" y="4581360"/>
            <a:ext cx="28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ilos de vi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coholismo y tabaqu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vel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7146360" y="577368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ués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Etiopatogé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190680" y="229536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tribución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059280" y="364500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o  socioeconómico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203640" y="3141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tribución todo el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879960" y="587700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3924360" y="43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o cer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Cadena de transmis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37" name="Diagram 5"/>
          <p:cNvGrpSpPr/>
          <p:nvPr/>
        </p:nvGrpSpPr>
        <p:grpSpPr>
          <a:xfrm>
            <a:off x="2324880" y="1895400"/>
            <a:ext cx="4796640" cy="4156920"/>
            <a:chOff x="2324880" y="1895400"/>
            <a:chExt cx="4796640" cy="4156920"/>
          </a:xfrm>
        </p:grpSpPr>
        <p:sp>
          <p:nvSpPr>
            <p:cNvPr id="138" name="_s3076"/>
            <p:cNvSpPr/>
            <p:nvPr/>
          </p:nvSpPr>
          <p:spPr>
            <a:xfrm>
              <a:off x="3259080" y="1895400"/>
              <a:ext cx="2927160" cy="2927520"/>
            </a:xfrm>
            <a:custGeom>
              <a:avLst/>
              <a:gdLst>
                <a:gd name="textAreaLeft" fmla="*/ 0 w 2927160"/>
                <a:gd name="textAreaRight" fmla="*/ 2927520 w 292716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3077"/>
            <p:cNvSpPr/>
            <p:nvPr/>
          </p:nvSpPr>
          <p:spPr>
            <a:xfrm rot="7200000">
              <a:off x="3658320" y="2587320"/>
              <a:ext cx="2927160" cy="2927160"/>
            </a:xfrm>
            <a:custGeom>
              <a:avLst/>
              <a:gdLst>
                <a:gd name="textAreaLeft" fmla="*/ 0 w 2927160"/>
                <a:gd name="textAreaRight" fmla="*/ 2927520 w 292716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3078"/>
            <p:cNvSpPr/>
            <p:nvPr/>
          </p:nvSpPr>
          <p:spPr>
            <a:xfrm rot="14400000">
              <a:off x="2860200" y="2589120"/>
              <a:ext cx="2927520" cy="2927160"/>
            </a:xfrm>
            <a:custGeom>
              <a:avLst/>
              <a:gdLst>
                <a:gd name="textAreaLeft" fmla="*/ 0 w 2927520"/>
                <a:gd name="textAreaRight" fmla="*/ 2927880 w 29275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3079"/>
            <p:cNvSpPr/>
            <p:nvPr/>
          </p:nvSpPr>
          <p:spPr>
            <a:xfrm>
              <a:off x="2746080" y="2432160"/>
              <a:ext cx="117504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3080"/>
            <p:cNvSpPr/>
            <p:nvPr/>
          </p:nvSpPr>
          <p:spPr>
            <a:xfrm>
              <a:off x="5524200" y="2430360"/>
              <a:ext cx="117504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081"/>
            <p:cNvSpPr/>
            <p:nvPr/>
          </p:nvSpPr>
          <p:spPr>
            <a:xfrm>
              <a:off x="4356000" y="4836960"/>
              <a:ext cx="129528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000" spc="-1" strike="noStrike">
                  <a:solidFill>
                    <a:srgbClr val="000000"/>
                  </a:solidFill>
                  <a:latin typeface="Arial"/>
                </a:rPr>
                <a:t>TA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5"/>
          <p:cNvSpPr/>
          <p:nvPr/>
        </p:nvSpPr>
        <p:spPr>
          <a:xfrm>
            <a:off x="1763640" y="2924280"/>
            <a:ext cx="284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aciente sintomát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spi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356000" y="20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5796000" y="2924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esqu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 flipH="1">
            <a:off x="5867280" y="4221000"/>
            <a:ext cx="15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so T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2268360" y="43657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udio conta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0033"/>
                </a:solidFill>
                <a:latin typeface="Times New Roman"/>
              </a:rPr>
              <a:t>Drogoresistencia en las Américas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4 Rectángulo"/>
          <p:cNvSpPr/>
          <p:nvPr/>
        </p:nvSpPr>
        <p:spPr>
          <a:xfrm>
            <a:off x="2286000" y="19969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.- Peru          2,190     3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2.- Brazil        1,140    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3.- Mexico         452     7.3%         61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4.- Ecuador       350     5.6%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5.- Haiti              304     4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6.- Rep. Dom.    300     4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7.- Colombia      280     4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8.- Argentina      250     4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9.- Bolivia           205     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0.-Guatemala   133      2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tros                  596      9.6%     10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Diagnóstic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92000" y="2133360"/>
            <a:ext cx="699444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uadro clí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ie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Perdida de p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olor torá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Hemopt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23:32:33Z</dcterms:created>
  <dc:creator>Felipe Guzmán</dc:creator>
  <dc:description/>
  <dc:language>en-US</dc:language>
  <cp:lastModifiedBy>Holiday</cp:lastModifiedBy>
  <dcterms:modified xsi:type="dcterms:W3CDTF">2012-04-11T12:53:10Z</dcterms:modified>
  <cp:revision>23</cp:revision>
  <dc:subject/>
  <dc:title>Diagnóstico y Tratamiento de la Tuberculosis.</dc:title>
</cp:coreProperties>
</file>