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3B28-44AC-41D2-AF20-30BD7F31A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37B1-B6A3-4096-B00E-227D4689A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idea es decir: Estamos participando en un programa llamado Frontera 2012 que es y explicarlo. Tiene varios puntos uno de ellos es planes de emergencia y decir que nosotros vamos a desarrollar un plan de emergencia para las empresas que pertenezcan al CAMP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eneficios que hemos visto que se pueden obtener es el alcance de capacitación en este tema, que individualmente sería muy costoso o dificil obtener. Y ese programa ha donado equipo a la ciu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cir que viene el programa de Frontera 2020, que les invitamos a los representantes del CAMPI´s a que asistan a las juntas y trabajen en estos program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EAC-977D-4943-BE2C-7654F00E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7F5-30BC-421E-9653-04F24CAC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1AC-D09A-4D62-8251-951748D2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E559-1453-4841-A072-AE8FD466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45BA-4386-4EB8-8686-453F6F06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08E0-E980-4EDB-AD66-61538A81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2091-0120-48BA-817F-25B0686A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326D-8BEF-493A-8191-89533376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B597-30F4-4D63-A5B4-A4238937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8A63-E6CF-4FED-B246-8DD327B3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6555-2B85-471E-96B9-D3BE9387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F8B-7E98-47E8-A752-156D097C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D24F-8381-416D-8636-3C2C072A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F471-36C8-45B7-A8DA-CBB81961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3480-8952-40DB-A9CB-0381E86C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36B9-170D-41A3-A1E0-853C9812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1545-58E2-45A2-9332-0CEC2815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1DB-F8DD-48A0-A4E4-6D4A33A3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93F-9C65-4931-8B14-943F3D3A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305-B293-4C9F-8DA7-6EEFB36D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0DB-2F79-4FD7-B7C6-21677072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4F0B-EBE5-47B3-A714-BC4FF98D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DC2-A8CD-4CCD-AB10-904F4C7E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D5A-C5D8-43C8-A0D7-4DB50AFB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1537-D2C4-4696-982B-6DA63075A3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A790-BF16-4454-8E36-930CC55ABB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800" spc="-1" strike="noStrike">
                <a:solidFill>
                  <a:srgbClr val="999900"/>
                </a:solidFill>
                <a:latin typeface="Garamond"/>
              </a:rPr>
              <a:t>Comité de Ayuda Mutua Parque Industrial Reynosa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400" spc="-1" strike="noStrike">
                <a:solidFill>
                  <a:srgbClr val="000000"/>
                </a:solidFill>
                <a:latin typeface="Verdana"/>
              </a:rPr>
              <a:t>CAMPIR</a:t>
            </a:r>
            <a:endParaRPr b="0" lang="en-US" sz="7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3120" y="-878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999900"/>
                </a:solidFill>
                <a:latin typeface="Garamond"/>
              </a:rPr>
              <a:t>Integrantes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667640" y="115920"/>
            <a:ext cx="1192320" cy="1224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447840" y="1643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312" descr=""/>
          <p:cNvPicPr/>
          <p:nvPr/>
        </p:nvPicPr>
        <p:blipFill>
          <a:blip r:embed="rId2"/>
          <a:srcRect l="0" t="0" r="71927" b="0"/>
          <a:stretch/>
        </p:blipFill>
        <p:spPr>
          <a:xfrm>
            <a:off x="685800" y="1557360"/>
            <a:ext cx="2822400" cy="540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13" descr=""/>
          <p:cNvPicPr/>
          <p:nvPr/>
        </p:nvPicPr>
        <p:blipFill>
          <a:blip r:embed="rId3"/>
          <a:srcRect l="0" t="0" r="59175" b="0"/>
          <a:stretch/>
        </p:blipFill>
        <p:spPr>
          <a:xfrm>
            <a:off x="4606920" y="1557360"/>
            <a:ext cx="40273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-1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999900"/>
                </a:solidFill>
                <a:latin typeface="Garamond"/>
              </a:rPr>
              <a:t>Frontera 2012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grama entre México y Estados Unidos con la finalidad de trabajar por el bienestar de la fronter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lanes de emergenci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desarrollo un proyecto que fue aprobado. Planes de emergencia para las empresas del Parque Industrial Reynos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Benefic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apacitación internacion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onacio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Frontera 202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9900"/>
                </a:solidFill>
                <a:latin typeface="Garamond"/>
              </a:rPr>
              <a:t>Actividades a corto plaz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Se terminó el Atlas de riesgo de todos los integrantes al CAMP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Se inicia a trabajar en los planes de emergencia para cada plan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apacitación para desarrollar planes de emergenci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btener el reconocimiento por parte Protección Civil nivel Federa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21:57:51Z</dcterms:created>
  <dc:creator>MBermudez</dc:creator>
  <dc:description/>
  <dc:language>en-US</dc:language>
  <cp:lastModifiedBy>Holiday</cp:lastModifiedBy>
  <dcterms:modified xsi:type="dcterms:W3CDTF">2012-04-11T13:01:26Z</dcterms:modified>
  <cp:revision>2</cp:revision>
  <dc:subject/>
  <dc:title>Comité de Ayuda Mutua Parque Industrial Reynosa</dc:title>
</cp:coreProperties>
</file>