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9ED-488E-4456-8C9B-761B0E44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7A1-8F92-48BE-BDF0-C7AC1861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24A-5DC4-43D5-B630-4A6ABD37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A63-BCED-4E49-B663-773485E7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875-1EF0-410D-AD4D-9772D17A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62E-0C80-49DE-B8B9-F9A23C06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5A3-7D66-499B-9452-5293A984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25A-6CE7-4025-AA67-DB1B2E74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8A7-DCD0-4479-B778-781768A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EF0-A5F3-4E6A-9C1C-97D27C3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05F-A6A4-4167-88D4-17F1098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4D9-F37B-4E92-B84D-F5F64B19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5640" y="6500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4242-6B67-4FC7-B729-A4FCF1BFF4BF}" type="slidenum">
              <a:rPr b="1" lang="es-MX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0099"/>
                </a:solidFill>
                <a:latin typeface="Arial"/>
              </a:rPr>
              <a:t>NOM-085-SEMARNAT-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5145120" y="5732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0080"/>
                </a:solidFill>
                <a:latin typeface="Arial"/>
                <a:ea typeface="Tahoma"/>
              </a:rPr>
              <a:t>Abril de 20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0680" y="1248840"/>
            <a:ext cx="63957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NOM-085-SEMARNAT-1994</a:t>
            </a:r>
            <a:br>
              <a:rPr sz="1600"/>
            </a:b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Para fuentes fijas que utilizan combustibles fósiles sólidos, líquidos o gaseosos o cualquiera de sus combinaciones, que establece los niveles máximos permisibles de emisión a la atmósfera de humos, partículas suspendidas totales, bióxido de azufre y óxidos de nitrógeno y los requisitos y condiciones para la operación de los equipos de </a:t>
            </a:r>
            <a:r>
              <a:rPr b="1" lang="es-MX" sz="1600" spc="-1" strike="noStrike" u="sng">
                <a:solidFill>
                  <a:srgbClr val="990099"/>
                </a:solidFill>
                <a:uFillTx/>
                <a:latin typeface="Verdana"/>
                <a:ea typeface="Verdana"/>
              </a:rPr>
              <a:t>calentamiento indirecto por combustión</a:t>
            </a: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, así como los niveles máximos permisibles de emisión de bióxido de azufre en los </a:t>
            </a:r>
            <a:r>
              <a:rPr b="1" lang="es-MX" sz="1600" spc="-1" strike="noStrike" u="sng">
                <a:solidFill>
                  <a:srgbClr val="990099"/>
                </a:solidFill>
                <a:uFillTx/>
                <a:latin typeface="Verdana"/>
                <a:ea typeface="Verdana"/>
              </a:rPr>
              <a:t>equipos de calentamiento directo por combustión</a:t>
            </a: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490680" y="4776840"/>
            <a:ext cx="669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NOM-085-SEMARNAT-20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Contaminación atmosférica.- Niveles máximos permisibles de emisión de los </a:t>
            </a:r>
            <a:r>
              <a:rPr b="1" lang="es-MX" sz="1600" spc="-1" strike="noStrike" u="sng">
                <a:solidFill>
                  <a:srgbClr val="990099"/>
                </a:solidFill>
                <a:uFillTx/>
                <a:latin typeface="Verdana"/>
                <a:ea typeface="Verdana"/>
              </a:rPr>
              <a:t>equipos de combustión de calentamiento indirecto</a:t>
            </a: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 y su medició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2 Flecha abajo"/>
          <p:cNvSpPr/>
          <p:nvPr/>
        </p:nvSpPr>
        <p:spPr>
          <a:xfrm>
            <a:off x="3479760" y="3664080"/>
            <a:ext cx="449280" cy="99036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922fa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5 CuadroTexto"/>
          <p:cNvSpPr/>
          <p:nvPr/>
        </p:nvSpPr>
        <p:spPr>
          <a:xfrm>
            <a:off x="3929040" y="3951360"/>
            <a:ext cx="41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Modificación (DOF 2-febrero-2012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2 CuadroTexto"/>
          <p:cNvSpPr/>
          <p:nvPr/>
        </p:nvSpPr>
        <p:spPr>
          <a:xfrm>
            <a:off x="888840" y="1602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99"/>
                </a:solidFill>
                <a:latin typeface="Verdana"/>
                <a:ea typeface="Verdana"/>
              </a:rPr>
              <a:t>PRINCIPALES CAMBIOS A LA NOM-085-SEMARN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7040" y="1020600"/>
            <a:ext cx="6435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Se eliminan las especificaciones relativas a equipos de calentamiento directo, toda vez que éstos deben normarse en función de sus características específicas y la norma aplicaba únicamente en bióxido de azufre a aquellos equipos que emiten sólo el azufre proveniente del combust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30320" y="3138480"/>
          <a:ext cx="7256520" cy="2900520"/>
        </p:xfrm>
        <a:graphic>
          <a:graphicData uri="http://schemas.openxmlformats.org/drawingml/2006/table">
            <a:tbl>
              <a:tblPr/>
              <a:tblGrid>
                <a:gridCol w="3598920"/>
                <a:gridCol w="36576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M-O85-SEMARNAT-199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M-O85-SEMARNAT-2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52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Equipos de </a:t>
                      </a: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combustión de </a:t>
                      </a:r>
                      <a:r>
                        <a:rPr b="0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calentamiento indirect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Equipos de generación de energía eléctrica por ciclo combinad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Equipos de calentamiento direct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Equipos de combustión de calentamiento indirect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Equipos de generación de ciclo abierto o ciclo combinado nuevos mayores a 101 GJ/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" name="2 CuadroTexto"/>
          <p:cNvSpPr/>
          <p:nvPr/>
        </p:nvSpPr>
        <p:spPr>
          <a:xfrm>
            <a:off x="888840" y="1602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99"/>
                </a:solidFill>
                <a:latin typeface="Verdana"/>
                <a:ea typeface="Verdana"/>
              </a:rPr>
              <a:t>PRINCIPALES CAMBIOS A LA NOM-085-SEMARN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039680"/>
            <a:ext cx="597708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Se eliminan los conceptos de niveles regionales y certificados de emisión cuya aplicación, en su caso, sería objeto de otras disposiciones de acuerdo con la LGEE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2787480"/>
          <a:ext cx="7512120" cy="2508480"/>
        </p:xfrm>
        <a:graphic>
          <a:graphicData uri="http://schemas.openxmlformats.org/drawingml/2006/table">
            <a:tbl>
              <a:tblPr/>
              <a:tblGrid>
                <a:gridCol w="3726000"/>
                <a:gridCol w="3786120"/>
              </a:tblGrid>
              <a:tr h="465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M-O85-SEMARNAT-199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M-O85-SEMARNAT-2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umeral 5.3 Las fuentes fijas cuya capacidad total en </a:t>
                      </a:r>
                      <a:r>
                        <a:rPr b="0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	</a:t>
                      </a:r>
                      <a:r>
                        <a:rPr b="0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equipos de combustión &gt; 43,000 MJ/h, deberán respaldar el total de las emisiones de SO2 con certificados de emisión, los cuales serán asignados con base en los </a:t>
                      </a:r>
                      <a:r>
                        <a:rPr b="1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iveles regionales </a:t>
                      </a:r>
                      <a:r>
                        <a:rPr b="0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922fa3"/>
                          </a:solidFill>
                          <a:latin typeface="Arial"/>
                        </a:rPr>
                        <a:t>Se eliminan los niveles regionales y certificados de emisió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" name="2 CuadroTexto"/>
          <p:cNvSpPr/>
          <p:nvPr/>
        </p:nvSpPr>
        <p:spPr>
          <a:xfrm>
            <a:off x="888840" y="1602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99"/>
                </a:solidFill>
                <a:latin typeface="Verdana"/>
                <a:ea typeface="Verdana"/>
              </a:rPr>
              <a:t>PRINCIPALES CAMBIOS A LA NOM-085-SEMARN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6680" y="1020600"/>
            <a:ext cx="659124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Se sustituye el parámetro de exceso de aire por monóxido de carbono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 Título"/>
          <p:cNvSpPr/>
          <p:nvPr/>
        </p:nvSpPr>
        <p:spPr>
          <a:xfrm>
            <a:off x="527040" y="2327400"/>
            <a:ext cx="7772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CONTAMINANTES NORMADO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7040" y="3368520"/>
          <a:ext cx="7257960" cy="1925640"/>
        </p:xfrm>
        <a:graphic>
          <a:graphicData uri="http://schemas.openxmlformats.org/drawingml/2006/table">
            <a:tbl>
              <a:tblPr/>
              <a:tblGrid>
                <a:gridCol w="3598920"/>
                <a:gridCol w="3659040"/>
              </a:tblGrid>
              <a:tr h="34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M-O85-SEMARNAT-199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M-O85-SEMARNAT-2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58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hum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Partícula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SO</a:t>
                      </a:r>
                      <a:r>
                        <a:rPr b="0" lang="es-ES" sz="1600" spc="-1" strike="noStrike" baseline="-25000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x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exceso de ai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hum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partícula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SO</a:t>
                      </a:r>
                      <a:r>
                        <a:rPr b="0" lang="es-ES" sz="1600" spc="-1" strike="noStrike" baseline="-25000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x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C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" name="2 CuadroTexto"/>
          <p:cNvSpPr/>
          <p:nvPr/>
        </p:nvSpPr>
        <p:spPr>
          <a:xfrm>
            <a:off x="888840" y="1602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99"/>
                </a:solidFill>
                <a:latin typeface="Verdana"/>
                <a:ea typeface="Verdana"/>
              </a:rPr>
              <a:t>PRINCIPALES CAMBIOS A LA NOM-085-SEMARN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095480"/>
            <a:ext cx="594684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Reducción de los niveles máximos permisibles de emisión de bióxido de azufre de las fuentes mayores ubicadas en las zonas críticas del país que se señalan en la nor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Título"/>
          <p:cNvSpPr/>
          <p:nvPr/>
        </p:nvSpPr>
        <p:spPr>
          <a:xfrm>
            <a:off x="527040" y="2119320"/>
            <a:ext cx="798048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99"/>
                </a:solidFill>
                <a:latin typeface="Verdana"/>
                <a:ea typeface="Verdana"/>
              </a:rPr>
              <a:t>REDUCCIÓN DEL LMP DE SO</a:t>
            </a:r>
            <a:r>
              <a:rPr b="1" lang="es-MX" sz="1600" spc="-1" strike="noStrike" baseline="-25000">
                <a:solidFill>
                  <a:srgbClr val="990099"/>
                </a:solidFill>
                <a:latin typeface="Verdana"/>
                <a:ea typeface="Verdana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2 CuadroTexto"/>
          <p:cNvSpPr/>
          <p:nvPr/>
        </p:nvSpPr>
        <p:spPr>
          <a:xfrm>
            <a:off x="888840" y="1602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99"/>
                </a:solidFill>
                <a:latin typeface="Verdana"/>
                <a:ea typeface="Verdana"/>
              </a:rPr>
              <a:t>PRINCIPALES CAMBIOS A LA NOM-085-SEMARN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88840" y="3660840"/>
          <a:ext cx="7256520" cy="1681200"/>
        </p:xfrm>
        <a:graphic>
          <a:graphicData uri="http://schemas.openxmlformats.org/drawingml/2006/table">
            <a:tbl>
              <a:tblPr/>
              <a:tblGrid>
                <a:gridCol w="3598920"/>
                <a:gridCol w="36576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M-O85-SEMARNAT-199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8632a0"/>
                          </a:solidFill>
                          <a:latin typeface="Verdana"/>
                          <a:ea typeface="Verdana"/>
                        </a:rPr>
                        <a:t>NOM-O85-SEMARNAT-2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Equipos &gt; 110 000 MJ/h que utilizan combustibles sólidos o líquidos en Zonas Crítica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99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MX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LMP = 1100 ppm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Equipos &gt; 530 GJ/h que utilizan combustibles sólidos o líquidos en Zonas Crítica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99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MX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LMP = 600 ppm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23:24:26Z</dcterms:created>
  <dc:creator>Ramiro Domínguez</dc:creator>
  <dc:description/>
  <dc:language>en-US</dc:language>
  <cp:lastModifiedBy>miguel.torres</cp:lastModifiedBy>
  <dcterms:modified xsi:type="dcterms:W3CDTF">2012-04-10T20:38:42Z</dcterms:modified>
  <cp:revision>62</cp:revision>
  <dc:subject/>
  <dc:title>Ejercicios NOM-085-SEMARNAT-1994</dc:title>
</cp:coreProperties>
</file>